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3573-D6D6-4EA9-AA09-0B60054F8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967D-0F70-4F85-AD0D-60F0B502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2E59-3652-4B43-AEAE-242B8C6FE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CAEF-549B-4FAE-B968-6E85C6E43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FD81-FDB0-466F-B1BB-70F2C4E2B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301F-CAD8-4B71-863E-50C25AD2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7C2C-7072-4349-8A56-B6CD7AF3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3B64-E763-49FB-BA63-BF6D03DF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6174-F19F-410B-8200-16879559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443D-1168-4CC2-81BF-E4861F6F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45EE-2800-49F7-95F4-7FA1EC84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6AE0-713A-4C5B-8163-63DA08FC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F810-0E82-4E63-A4DE-5DCA793B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A2D2-5732-4F9E-84F9-B29859F2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8950-057E-421D-B4B5-344F7533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6592-4874-4252-95AF-2DF92E975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775F-1E7A-4AFE-95F8-A8CA7F2DC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C883-2EBD-4D0E-A2DF-5AE9DF34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2DF9-D136-4B10-9E24-7028030C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A4FE-0DDB-4D08-874F-0DFA62BB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1CBC-9916-4C5E-9902-454C3E82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07ED-2A88-488E-9C55-9DAEA5F8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FEAA-D7FE-4A76-B0A5-81E25590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5DEB-195F-4ABF-9821-F1178DD8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ACF7-C6A9-4D50-A194-5ED9E6A84C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1645-4260-45F6-8390-F162B10EBA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Individual in Histo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8-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8c0039"/>
                </a:solidFill>
                <a:latin typeface="Arial"/>
              </a:rPr>
              <a:t>Consider this question (the EQ)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oes the individual influence history, or does history influence the individual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embark upon two parts of a year-long research process to answer that question. Part I will be to research and write a paper. Part II will be about showcasing their research in a pro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you beg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fill out the capacity matrix about your the research process so I can see where you are in your knowledge of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4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category on the left-hand column in the capacity matrix, check whichever block in the rest of the columns that fits your knowledge of the research proc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???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I’ve never heard of this concept and have no idea of what it 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I’ve heard of this conce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rehens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I understand this concept and can demonstrate my knowled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I apply this concept to conduct research about a problem or iss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 &amp; Synthes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I can use this concept in a variety of ways to meet my research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alu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I foresee application of these concepts often and will use them in my future research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696080" y="5562720"/>
          <a:ext cx="914400" cy="71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56272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18:28:56Z</dcterms:created>
  <dc:creator>Jeri</dc:creator>
  <dc:description/>
  <dc:language>en-US</dc:language>
  <cp:lastModifiedBy>Greenville Schools</cp:lastModifiedBy>
  <dcterms:modified xsi:type="dcterms:W3CDTF">2008-03-03T01:50:37Z</dcterms:modified>
  <cp:revision>21</cp:revision>
  <dc:subject/>
  <dc:title>The Individual in History</dc:title>
</cp:coreProperties>
</file>